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4F36-E8BE-4496-9F07-9B2FD49284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B0E-F189-444F-9196-D74AF8A0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CED-003E-4D38-99DA-BFFF52F1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6AC6B-C4E0-4903-A33F-0D98159E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5D13F-931E-41DA-A44E-4BDF3D33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01699-A271-4282-B79A-9439CBBB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F3F78-6B5A-4FBE-BFA5-D2A67DB5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5EC83-FA5A-4A77-A9AF-07DECF66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1B82D-3AFB-4169-8964-33EC1982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167D0-6D55-4E9C-9F2F-E07B9CB0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E1503-D904-49AB-BC5B-B000DAB1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CF9FA-3D52-4330-A233-FF7766C3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BC4A8-D830-48AA-9DC1-A44506AD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C8D-59F6-4DDC-A3AB-CC70D301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F5B98-D1AA-4CCA-BEB9-ECDE68B6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B46A8-01AE-4058-8EFA-A89EBD0C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444F1-D713-4F45-BC78-CB3C0699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DDD67-DB82-4503-A707-331CCD54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8E290-562E-488F-AD23-78E012DF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7612F-C812-4C13-A3B0-B7508C7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4578A-BBCD-4761-958F-68B7630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00EC4-3EFA-4748-AD88-832FD151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2CE8F-368F-4CFB-ABF1-512E752F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7E8CF-EC98-4CEF-8F83-99676518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666-02A6-4075-B9A5-20207745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54260-6BBB-42AE-AFAC-6934E9B7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197DE-B40F-4245-8511-220D46F7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22131-3370-4ED1-B6BB-DA41CA7F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723BB-B58B-4B3E-8036-E303C290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3B696-9CE5-4E97-9568-60F789AE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2956E-A8F5-4661-931E-14236716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15811-3E60-4344-B365-079B6B47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596B5-7866-4DB2-95BF-56BC4BAE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A8CD6-7263-426F-9829-5A1B827F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239CD-A582-4358-A9B9-0388256D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5A84-1027-456D-9BA8-5B610019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DD7D6-CC96-416D-B6A6-CCBC6318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E45D5-B2DF-49DE-A6E1-C154460F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27A23-72E7-4592-97CE-FEFCBF74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96247-2F92-439C-943C-05AC1D49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616B3-D0C4-468D-829D-0D24FD3E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18BD6-43CA-4863-9ECA-DB90AB72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6028E-6CEC-4C04-A5B6-1FF596F0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CAAD0-A103-4ACA-A3CF-3FF284F4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322D3-D46C-4ED8-AE97-4B1145A6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69D7C-82B3-498B-9D64-7883D49B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54A9-351F-48EB-B11A-5B93D093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DF5F6-81F0-489E-BC56-7947D51C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117C0-98DD-4E41-BB51-148EEF11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A85F7-920B-4056-B82C-5A4B2B40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DE80C-3721-49C2-9D31-6A5EBB91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C59CF-D457-4CD2-B14E-21AC94BB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EA606-8B17-4404-9B1E-6A9AD284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6F35C-C417-457C-BEF9-6C938D96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61C37-99F1-443F-BC3F-16DE5F0F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74CB8-F665-45CD-B6B8-58F507CC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CAA7A-E55E-4971-9F4E-0487719E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5667-07EB-4B8A-A9A4-DD73909D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82A39-EC70-4D3D-942F-35398AAD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FBA61-F137-420C-A57A-BFB78B7E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CF8AC-98D0-4783-B85F-61E20E82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2C55C-218F-42FD-B0BE-E1B12D54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FFB7F-CEE6-4AFA-AA10-28B972BD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CD923-E46E-4559-84F2-893DF834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0500E-6779-44EC-8E7A-EF692637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07AC7-2C10-4FC8-BF98-217BEE6A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72AE5D-B068-494D-9F14-39A290D2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A48ED-AFC9-450B-87B7-DE7ED7F8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AFBC-AFF0-43C7-AA70-BC1ABED7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42C4E-191E-4A88-88E5-AD5F2E22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28292-9999-48D4-9C34-DE583E2F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A3B7D-BEEC-489E-8F55-99353BDF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5A489-045D-4E47-88BE-208EA5F3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FF49B-6F49-401A-BFB6-9F155F25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DFDF8-C1A7-4913-A984-C38B0B53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6B125-752C-4113-A492-016A7B2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0E3E6C-FA5F-49BE-85B7-A4CF446A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19A3F-F7C7-4538-83C1-78D179AB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2FF9-C987-4D35-B539-53DCED95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DAB0-701D-4044-A6AB-7E93CCC6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E649-9D1B-41D4-8F1A-FA48E899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00F-B0F7-44DF-94E2-9D9DD443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6C56-CACF-4BE7-8301-E55FC77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4B15-FDD0-4B7B-B1C4-49049D41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D57C-76E3-4540-BF9D-ABC59E67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3378-9BF6-469F-B401-B40B9525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E41B-5931-47C6-9F5F-F58F7710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B1A4-6CAC-4B50-B638-423277BA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8EDFE-8978-40CD-B4FE-15AD5F79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C2B44-477F-4BA3-B0A2-56CCE5C7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7BF60-564E-4D5B-99C9-6BDA8384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4AA1-5636-4E27-AB47-8A6D2BCA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08A-5D86-408D-887D-C6E40430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CDB03-38BE-46C2-AD0F-DEF0B869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ED7DD-2E37-4CCC-A401-A19508D5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0FEC-628E-4C9A-BFB4-044A165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6D90-3672-489B-A731-554ED4E5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1ACF-84AE-48F9-8A36-BA90BD89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A2F9-BD30-41FE-BD1B-1A972323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A435-2A9B-4E5F-9675-8F00FEE5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01732-835F-4D38-9773-3B5B11E3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AB936-4372-4957-B64E-64FA4D68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4E1E-2AED-4E3E-817B-E7C59086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95C2-197B-4D55-BB03-69C2590B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A1472-E531-4DEF-B477-0E812812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AD1F1-FA37-4A76-95B4-658FC116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CC18A-CF6D-482B-8DE2-FCD1E5AC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CC3C0-BB9F-4BEE-9522-CC4312F6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AE657-B509-46B4-B1FD-AE19C501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20D2C-5BB7-4933-B8BB-BFECB4F0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AD6F-C202-4C5D-BCB9-98AB15A2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E8F1B-3C15-45E5-A350-6A5F1B57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1F8B1-5802-4D4E-BFDE-2BCC79DE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CA9F3-E30B-4DDA-9549-DCE507B7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59C-E568-41A2-960F-FC15D559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784D0-1077-4926-921F-C6B6AF41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6EB35-21B1-415D-B9FF-8736735A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BE03C-D3CA-403B-8146-D5810C0E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7E37-B193-4951-AFDF-B4D63627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2D769-85C3-4EFE-88DE-CE6138D8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280D6-BC13-4E21-833A-285C6EA2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D82F0-2CD4-4DE3-AA63-29B9625F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4FC73-46A6-4672-BEEA-597E585E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7D269-D147-4021-9A7A-27B7B977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46B8F-C252-48D0-800A-DC2BC25F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4BF-17B1-4F36-8C77-50BA02C1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72AF2-88A5-47FC-A892-76DB8B1C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D0988-63D3-490A-B9E4-7F2AF2C3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33849-F7A6-4AB9-B6D5-E11CE446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37D5A-00BB-4079-8443-F9BC81A0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2AD02-5F04-4F05-B5AF-9D5E23FC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1ED55-EC2F-44EE-B2F6-3D78ACBA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1C99E-BD2C-486D-94E5-82D1EEC8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3FBFA-ECBC-4599-991C-F205B447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A768D-8F0B-4DB9-B971-3B9304B3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ADC53-A7E7-4C57-97F2-2E04B097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114-DA8D-435A-B3F5-889DC309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4C245-2DC2-4D63-91E0-CBD69255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5CB53-4F80-4DD0-B9A6-835EF923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2D4CB-6AB2-43A1-B379-995FD720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3722B-65C1-4408-9ABE-09AAE61E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ECC7A-A652-4A54-8DD7-191A40AC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D22F4-02B6-46F2-8B07-BEFDDE80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9D0A5-1542-4E50-9784-18DD6D1F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3F152-8EE0-4A09-81BD-4C135DA4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D1710-F016-43AA-AFBD-4AD04330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27306-CA26-4561-ABD0-BF79EE4A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5AB-447E-4FD8-9D39-D1ACEC1A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47E6A-8BA4-4EB2-817E-3A28A467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0336E-B50A-45D8-A170-D7BDE90E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F95D2-8FE5-479F-80FC-4A12D237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12B02-F44C-498E-86A7-565F18A4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51D00-F7A1-4285-B6D5-B716C194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54337-4346-4C05-84C0-86565D08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98430-AA9B-4EF8-868B-D69D1B5D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E32C1-C51F-4E2C-B43D-C3603360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D226C-60FE-4DB3-9388-0183E394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AF8E4-B48F-4BF4-BB3D-6F43ABD5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324-D261-4EA7-8C6C-0778C032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2CE79-17E3-4C92-82A2-A9D06543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539BD-FF34-4D6C-9C14-E6062A89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01BB2-4996-4316-859D-CBAF12E6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C2F2B-2878-4FF7-A1FA-08432536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51FEC-327B-482C-BCF4-CD342035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C9A3F-C888-4117-A9D3-DE701CE4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106A8-72DD-4AB8-BADA-04E950CB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5B95A-1E00-4245-8CC5-DA59A949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6B16C-BA03-4A48-9CCE-BB2B93C5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4B963-5830-41CC-977F-4B940456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2E7B-D3D5-4538-923A-C54C97A5082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F691-C977-4E73-86F1-7D67C9CD198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9056-C328-4DA6-9132-48C27CBF5AD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FF54-E26E-49FF-B480-72C19376729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88F9-B893-47D4-B380-8179B614F85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5F53-27AF-4AE2-B9A0-CCEA8BED80C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A49F-4126-4513-8CB3-D5DAD85B53B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EC9B-00A3-471A-B447-F402FBF61DA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611B-F51F-43B8-ACD8-D42E576638D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30FE-B2F5-48F3-9544-A98FA3E0554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5E6E-3648-4EE0-83A6-3F1DE926B1C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7E52-A9CD-4319-86AD-36C08B60EEE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2502-A3E5-455B-8F81-D8925924238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E083-14E2-4EC7-A40E-553C64AB5F0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6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  <p:sp>
        <p:nvSpPr>
          <p:cNvPr id="76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8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6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  <p:sp>
        <p:nvSpPr>
          <p:cNvPr id="738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  <p:sp>
        <p:nvSpPr>
          <p:cNvPr id="742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5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  <p:sp>
        <p:nvSpPr>
          <p:cNvPr id="746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9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  <p:sp>
        <p:nvSpPr>
          <p:cNvPr id="754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LEGION</cp:lastModifiedBy>
  <dcterms:modified xsi:type="dcterms:W3CDTF">2017-07-03T10:04:04Z</dcterms:modified>
  <cp:revision>16</cp:revision>
  <dc:subject/>
  <dc:title>Ancient Mexico</dc:title>
</cp:coreProperties>
</file>